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E95C78D-1F72-40BF-AE37-AABD0E2931F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 URL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な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2,3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/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2,3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/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CDD-7F01-4682-B50B-5470901D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941-FBE0-4BAA-A5CD-66631954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DD3B-19FF-49DB-AE48-A58A5EF2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4518-4878-4F73-B58D-1CE0E2E9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4BB-240E-4C2D-A8E6-97F9679E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B89-3BA7-4350-8368-9F101D71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82E-518E-4647-A0D9-44E6D9DA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6CAC-8F4C-4540-8622-4CD8E2C2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9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A4D-B5D4-4A1D-9560-D72E40B8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109-3069-4D68-8121-6832A435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B5D-EAAE-413C-8441-AF73DB0D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62B-3B79-40DF-A329-CE39B6E2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D55C-1A18-4B32-B97B-961FE47FEBA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hyperlink" Target="mailto:kaminaga@sm.sony.co.jp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spend2.net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189000"/>
            <a:ext cx="8610480" cy="1871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 Managemen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roki Kamina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y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kaminaga@sm.sony.co.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translated by ikoma@slab.tnr.sharp.co.jp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B88A-E597-46D8-8421-28454B3AA36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bernation on Linux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d in 2.6 vanilla ker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cumentation/power/swsusp.t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: Pavel Mach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suspen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http://www.suspend2.net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: Nigel Cunning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D7B9-0DA1-454D-AA26-10C925829E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bernate on Linux(comparison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19120" y="2109960"/>
          <a:ext cx="8229600" cy="3555720"/>
        </p:xfrm>
        <a:graphic>
          <a:graphicData uri="http://schemas.openxmlformats.org/drawingml/2006/table">
            <a:tbl>
              <a:tblPr/>
              <a:tblGrid>
                <a:gridCol w="2746440"/>
                <a:gridCol w="2739960"/>
                <a:gridCol w="2743200"/>
              </a:tblGrid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ite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386, ppc, x86_64, ia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386, ppc, x86_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ntiguous mem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ess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cryp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pend-to-swapfil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pend-to-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land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サポー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3773520" y="148428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su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82960" y="14842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pen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17840" y="5948280"/>
            <a:ext cx="476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uspend2.net/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8392-8ECB-4A05-AB17-8F957F06848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viron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AP Starter Kit (OSK 59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 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osk.jpg"/>
          <p:cNvPicPr/>
          <p:nvPr/>
        </p:nvPicPr>
        <p:blipFill>
          <a:blip r:embed="rId2"/>
          <a:stretch/>
        </p:blipFill>
        <p:spPr>
          <a:xfrm>
            <a:off x="5651640" y="333360"/>
            <a:ext cx="3095640" cy="2325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003640" y="2792520"/>
            <a:ext cx="3961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dware Feat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9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P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V320AIC23 Stereo Cod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DDR SD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Flash 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-232 Serial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MBPS Etherne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B Hos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ct flash conn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board IEEE 1149.1 J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167-6F0B-4528-91AB-988255DDEA9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Ite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ing hibernation on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ing with swsusp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ing to 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bernation onto FL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ing system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speed shut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"/>
              </a:rPr>
              <a:t>Hibernation on Boot 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DEFERED_RESU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8F9-B724-4FAF-A52E-FF57E0CC489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gating Suspend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ession of system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 of system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ing Suspend2 onto 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gating U-b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bernation on Boot loader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9B7-4722-4C4D-84FA-8E2D748FDC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943C-9227-4FF2-9163-6219679FC30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t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 ARM port patch to Suspend2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L; Accepted favarab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ML adviced me on questions/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DECA-8522-4154-A6C7-2B82DB8F8EC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59280" y="3213000"/>
            <a:ext cx="297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083-3ACB-45A7-A974-5B038CCD6F9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197000"/>
            <a:ext cx="914400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989000"/>
            <a:ext cx="9144000" cy="792360"/>
          </a:xfrm>
          <a:prstGeom prst="rect">
            <a:avLst/>
          </a:prstGeom>
          <a:solidFill>
            <a:srgbClr val="0000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781360"/>
            <a:ext cx="914400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573360"/>
            <a:ext cx="9144000" cy="792360"/>
          </a:xfrm>
          <a:prstGeom prst="rect">
            <a:avLst/>
          </a:prstGeom>
          <a:solidFill>
            <a:srgbClr val="0000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365720"/>
            <a:ext cx="914400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157720"/>
            <a:ext cx="9144000" cy="792360"/>
          </a:xfrm>
          <a:prstGeom prst="rect">
            <a:avLst/>
          </a:prstGeom>
          <a:solidFill>
            <a:srgbClr val="0000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graturation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shinTiger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on the league championshi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A8B-1F62-4C39-ACCA-29BAFB7285C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407520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until the application reaches to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fer of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namic li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 con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C Processing among applications for the whole system 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03600" y="207504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69800" y="2160720"/>
            <a:ext cx="11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98560" y="3278160"/>
            <a:ext cx="647640" cy="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46200" y="3278160"/>
            <a:ext cx="64764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93840" y="3278160"/>
            <a:ext cx="12240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3278160"/>
            <a:ext cx="345744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80920" y="257796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ot lo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ker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9964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4728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4440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3676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9856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9384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784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7708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38880" y="220500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up time of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6040" y="1413000"/>
            <a:ext cx="6286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 to shorten start up time of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B78B-7896-4ED2-8DDD-D430E6F2181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al Approach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dynamic linking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time for global co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constructors in the same place(Localization eff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in place (XI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and Paging of Data Section(From Mizuyama’s presentation in the previous Jambor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066-3791-4BE9-A170-ADDE7F8AEA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Approach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return from hiber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S (Boot loader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S + 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F1D-06BB-4F95-9C9B-BC8E6B8DA2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spend/Resume Sequence(1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9120" y="198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00" y="3787920"/>
            <a:ext cx="14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3716280"/>
            <a:ext cx="792000" cy="1008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202" y="0"/>
                </a:lnTo>
                <a:lnTo>
                  <a:pt x="21600" y="10800"/>
                </a:lnTo>
                <a:lnTo>
                  <a:pt x="132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68360" y="3716280"/>
            <a:ext cx="1513080" cy="1008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16" y="0"/>
                </a:lnTo>
                <a:lnTo>
                  <a:pt x="21600" y="10800"/>
                </a:lnTo>
                <a:lnTo>
                  <a:pt x="17316" y="21600"/>
                </a:lnTo>
                <a:lnTo>
                  <a:pt x="0" y="21600"/>
                </a:lnTo>
                <a:lnTo>
                  <a:pt x="4284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773360"/>
            <a:ext cx="1835280" cy="1008000"/>
          </a:xfrm>
          <a:custGeom>
            <a:avLst/>
            <a:gdLst>
              <a:gd name="textAreaLeft" fmla="*/ 0 w 1835280"/>
              <a:gd name="textAreaRight" fmla="*/ 1835640 w 1835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3" y="0"/>
                </a:lnTo>
                <a:lnTo>
                  <a:pt x="21600" y="10800"/>
                </a:lnTo>
                <a:lnTo>
                  <a:pt x="177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286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2278080"/>
            <a:ext cx="0" cy="14400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4221000"/>
            <a:ext cx="0" cy="11527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2520" y="5302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0560" y="3716280"/>
            <a:ext cx="936360" cy="1008000"/>
          </a:xfrm>
          <a:custGeom>
            <a:avLst/>
            <a:gdLst>
              <a:gd name="textAreaLeft" fmla="*/ 0 w 936360"/>
              <a:gd name="textAreaRight" fmla="*/ 936720 w 936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22" y="0"/>
                </a:lnTo>
                <a:lnTo>
                  <a:pt x="21600" y="10800"/>
                </a:lnTo>
                <a:lnTo>
                  <a:pt x="140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46560" y="3716280"/>
            <a:ext cx="1513080" cy="1008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11" y="0"/>
                </a:lnTo>
                <a:lnTo>
                  <a:pt x="21600" y="10800"/>
                </a:lnTo>
                <a:lnTo>
                  <a:pt x="17611" y="21600"/>
                </a:lnTo>
                <a:lnTo>
                  <a:pt x="0" y="21600"/>
                </a:lnTo>
                <a:lnTo>
                  <a:pt x="3989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72360" y="3716280"/>
            <a:ext cx="863640" cy="1008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16" y="0"/>
                </a:lnTo>
                <a:lnTo>
                  <a:pt x="21600" y="10800"/>
                </a:lnTo>
                <a:lnTo>
                  <a:pt x="14016" y="21600"/>
                </a:lnTo>
                <a:lnTo>
                  <a:pt x="0" y="21600"/>
                </a:lnTo>
                <a:lnTo>
                  <a:pt x="7584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38560" y="5230800"/>
            <a:ext cx="720720" cy="5763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572000" y="47260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24120" y="5302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36000" y="1773360"/>
            <a:ext cx="1908000" cy="1008000"/>
          </a:xfrm>
          <a:custGeom>
            <a:avLst/>
            <a:gdLst>
              <a:gd name="textAreaLeft" fmla="*/ 0 w 1908000"/>
              <a:gd name="textAreaRight" fmla="*/ 1908360 w 1908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236000" y="278100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7B5-1E90-4BB0-BDEA-D1EAE3D6C17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spend/Resume Sequence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9120" y="198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00" y="3789360"/>
            <a:ext cx="14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773360"/>
            <a:ext cx="1835280" cy="1008000"/>
          </a:xfrm>
          <a:custGeom>
            <a:avLst/>
            <a:gdLst>
              <a:gd name="textAreaLeft" fmla="*/ 0 w 1835280"/>
              <a:gd name="textAreaRight" fmla="*/ 1835640 w 1835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3" y="0"/>
                </a:lnTo>
                <a:lnTo>
                  <a:pt x="21600" y="10800"/>
                </a:lnTo>
                <a:lnTo>
                  <a:pt x="177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86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76360" y="1773360"/>
            <a:ext cx="1079640" cy="10080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525" y="0"/>
                </a:lnTo>
                <a:lnTo>
                  <a:pt x="21600" y="10800"/>
                </a:lnTo>
                <a:lnTo>
                  <a:pt x="14525" y="21600"/>
                </a:lnTo>
                <a:lnTo>
                  <a:pt x="0" y="21600"/>
                </a:lnTo>
                <a:lnTo>
                  <a:pt x="7075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1773360"/>
            <a:ext cx="1584360" cy="1008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3" y="0"/>
                </a:lnTo>
                <a:lnTo>
                  <a:pt x="21600" y="10800"/>
                </a:lnTo>
                <a:lnTo>
                  <a:pt x="16863" y="21600"/>
                </a:lnTo>
                <a:lnTo>
                  <a:pt x="0" y="21600"/>
                </a:lnTo>
                <a:lnTo>
                  <a:pt x="4737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2276640"/>
            <a:ext cx="0" cy="30970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2520" y="5302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0560" y="1773360"/>
            <a:ext cx="936360" cy="1008000"/>
          </a:xfrm>
          <a:custGeom>
            <a:avLst/>
            <a:gdLst>
              <a:gd name="textAreaLeft" fmla="*/ 0 w 936360"/>
              <a:gd name="textAreaRight" fmla="*/ 936720 w 936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22" y="0"/>
                </a:lnTo>
                <a:lnTo>
                  <a:pt x="21600" y="10800"/>
                </a:lnTo>
                <a:lnTo>
                  <a:pt x="140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00720" y="1773360"/>
            <a:ext cx="1513080" cy="1008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11" y="0"/>
                </a:lnTo>
                <a:lnTo>
                  <a:pt x="21600" y="10800"/>
                </a:lnTo>
                <a:lnTo>
                  <a:pt x="17611" y="21600"/>
                </a:lnTo>
                <a:lnTo>
                  <a:pt x="0" y="21600"/>
                </a:lnTo>
                <a:lnTo>
                  <a:pt x="3989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38560" y="5230800"/>
            <a:ext cx="720720" cy="5763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572000" y="278136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24120" y="5302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1773360"/>
            <a:ext cx="936360" cy="1008000"/>
          </a:xfrm>
          <a:custGeom>
            <a:avLst/>
            <a:gdLst>
              <a:gd name="textAreaLeft" fmla="*/ 0 w 936360"/>
              <a:gd name="textAreaRight" fmla="*/ 936720 w 936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53" y="0"/>
                </a:lnTo>
                <a:lnTo>
                  <a:pt x="21600" y="10800"/>
                </a:lnTo>
                <a:lnTo>
                  <a:pt x="14253" y="21600"/>
                </a:lnTo>
                <a:lnTo>
                  <a:pt x="0" y="21600"/>
                </a:lnTo>
                <a:lnTo>
                  <a:pt x="7347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51640" y="1773360"/>
            <a:ext cx="863640" cy="1008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619" y="0"/>
                </a:lnTo>
                <a:lnTo>
                  <a:pt x="21600" y="10800"/>
                </a:lnTo>
                <a:lnTo>
                  <a:pt x="13619" y="21600"/>
                </a:lnTo>
                <a:lnTo>
                  <a:pt x="0" y="21600"/>
                </a:lnTo>
                <a:lnTo>
                  <a:pt x="7981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56720" y="1773360"/>
            <a:ext cx="1116000" cy="1008000"/>
          </a:xfrm>
          <a:custGeom>
            <a:avLst/>
            <a:gdLst>
              <a:gd name="textAreaLeft" fmla="*/ 0 w 1116000"/>
              <a:gd name="textAreaRight" fmla="*/ 1116360 w 1116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4" y="0"/>
                </a:lnTo>
                <a:lnTo>
                  <a:pt x="21600" y="10800"/>
                </a:lnTo>
                <a:lnTo>
                  <a:pt x="15424" y="21600"/>
                </a:lnTo>
                <a:lnTo>
                  <a:pt x="0" y="21600"/>
                </a:lnTo>
                <a:lnTo>
                  <a:pt x="6176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24360" y="1773360"/>
            <a:ext cx="935280" cy="1008000"/>
          </a:xfrm>
          <a:custGeom>
            <a:avLst/>
            <a:gdLst>
              <a:gd name="textAreaLeft" fmla="*/ 0 w 935280"/>
              <a:gd name="textAreaRight" fmla="*/ 935640 w 935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72" y="0"/>
                </a:lnTo>
                <a:lnTo>
                  <a:pt x="21600" y="10800"/>
                </a:lnTo>
                <a:lnTo>
                  <a:pt x="15072" y="21600"/>
                </a:lnTo>
                <a:lnTo>
                  <a:pt x="0" y="21600"/>
                </a:lnTo>
                <a:lnTo>
                  <a:pt x="6528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3EA2-F7D8-41A2-81DC-26D887A625E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spend/Resume Sequence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0040" y="198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0" y="3789360"/>
            <a:ext cx="14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20" y="1773360"/>
            <a:ext cx="1511280" cy="100800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3" y="0"/>
                </a:lnTo>
                <a:lnTo>
                  <a:pt x="21600" y="10800"/>
                </a:lnTo>
                <a:lnTo>
                  <a:pt x="177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86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1773360"/>
            <a:ext cx="647640" cy="1008000"/>
          </a:xfrm>
          <a:custGeom>
            <a:avLst/>
            <a:gdLst>
              <a:gd name="textAreaLeft" fmla="*/ 0 w 647640"/>
              <a:gd name="textAreaRight" fmla="*/ 648000 w 647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525" y="0"/>
                </a:lnTo>
                <a:lnTo>
                  <a:pt x="21600" y="10800"/>
                </a:lnTo>
                <a:lnTo>
                  <a:pt x="14525" y="21600"/>
                </a:lnTo>
                <a:lnTo>
                  <a:pt x="0" y="21600"/>
                </a:lnTo>
                <a:lnTo>
                  <a:pt x="7075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1773360"/>
            <a:ext cx="865440" cy="1008000"/>
          </a:xfrm>
          <a:custGeom>
            <a:avLst/>
            <a:gdLst>
              <a:gd name="textAreaLeft" fmla="*/ 0 w 865440"/>
              <a:gd name="textAreaRight" fmla="*/ 865800 w 865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3" y="0"/>
                </a:lnTo>
                <a:lnTo>
                  <a:pt x="21600" y="10800"/>
                </a:lnTo>
                <a:lnTo>
                  <a:pt x="16863" y="21600"/>
                </a:lnTo>
                <a:lnTo>
                  <a:pt x="0" y="21600"/>
                </a:lnTo>
                <a:lnTo>
                  <a:pt x="4737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0" y="4221000"/>
            <a:ext cx="0" cy="11527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2520" y="5302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27640" y="1773360"/>
            <a:ext cx="936720" cy="1008000"/>
          </a:xfrm>
          <a:custGeom>
            <a:avLst/>
            <a:gdLst>
              <a:gd name="textAreaLeft" fmla="*/ 0 w 936720"/>
              <a:gd name="textAreaRight" fmla="*/ 937080 w 936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22" y="0"/>
                </a:lnTo>
                <a:lnTo>
                  <a:pt x="21600" y="10800"/>
                </a:lnTo>
                <a:lnTo>
                  <a:pt x="140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05440" y="1773360"/>
            <a:ext cx="1008360" cy="100800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70" y="0"/>
                </a:lnTo>
                <a:lnTo>
                  <a:pt x="21600" y="10800"/>
                </a:lnTo>
                <a:lnTo>
                  <a:pt x="16770" y="21600"/>
                </a:lnTo>
                <a:lnTo>
                  <a:pt x="0" y="21600"/>
                </a:lnTo>
                <a:lnTo>
                  <a:pt x="483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8560" y="5230800"/>
            <a:ext cx="720720" cy="5763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572000" y="47973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24120" y="5302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97800" y="1773360"/>
            <a:ext cx="792000" cy="1008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2" y="0"/>
                </a:lnTo>
                <a:lnTo>
                  <a:pt x="21600" y="10800"/>
                </a:lnTo>
                <a:lnTo>
                  <a:pt x="16232" y="21600"/>
                </a:lnTo>
                <a:lnTo>
                  <a:pt x="0" y="21600"/>
                </a:lnTo>
                <a:lnTo>
                  <a:pt x="5368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72360" y="1773360"/>
            <a:ext cx="865440" cy="1008000"/>
          </a:xfrm>
          <a:custGeom>
            <a:avLst/>
            <a:gdLst>
              <a:gd name="textAreaLeft" fmla="*/ 0 w 865440"/>
              <a:gd name="textAreaRight" fmla="*/ 865800 w 865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25" y="0"/>
                </a:lnTo>
                <a:lnTo>
                  <a:pt x="21600" y="10800"/>
                </a:lnTo>
                <a:lnTo>
                  <a:pt x="16725" y="21600"/>
                </a:lnTo>
                <a:lnTo>
                  <a:pt x="0" y="21600"/>
                </a:lnTo>
                <a:lnTo>
                  <a:pt x="4875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00" y="3789360"/>
            <a:ext cx="14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3718080"/>
            <a:ext cx="792360" cy="1008000"/>
          </a:xfrm>
          <a:custGeom>
            <a:avLst/>
            <a:gdLst>
              <a:gd name="textAreaLeft" fmla="*/ 0 w 792360"/>
              <a:gd name="textAreaRight" fmla="*/ 792720 w 792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202" y="0"/>
                </a:lnTo>
                <a:lnTo>
                  <a:pt x="21600" y="10800"/>
                </a:lnTo>
                <a:lnTo>
                  <a:pt x="132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3718080"/>
            <a:ext cx="863640" cy="1008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16" y="0"/>
                </a:lnTo>
                <a:lnTo>
                  <a:pt x="21600" y="10800"/>
                </a:lnTo>
                <a:lnTo>
                  <a:pt x="17316" y="21600"/>
                </a:lnTo>
                <a:lnTo>
                  <a:pt x="0" y="21600"/>
                </a:lnTo>
                <a:lnTo>
                  <a:pt x="4284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0560" y="3718080"/>
            <a:ext cx="506160" cy="1008000"/>
          </a:xfrm>
          <a:custGeom>
            <a:avLst/>
            <a:gdLst>
              <a:gd name="textAreaLeft" fmla="*/ 0 w 506160"/>
              <a:gd name="textAreaRight" fmla="*/ 506520 w 5061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16" y="0"/>
                </a:lnTo>
                <a:lnTo>
                  <a:pt x="21600" y="10800"/>
                </a:lnTo>
                <a:lnTo>
                  <a:pt x="140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3718080"/>
            <a:ext cx="865080" cy="1008000"/>
          </a:xfrm>
          <a:custGeom>
            <a:avLst/>
            <a:gdLst>
              <a:gd name="textAreaLeft" fmla="*/ 0 w 865080"/>
              <a:gd name="textAreaRight" fmla="*/ 865440 w 865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87" y="0"/>
                </a:lnTo>
                <a:lnTo>
                  <a:pt x="21600" y="10800"/>
                </a:lnTo>
                <a:lnTo>
                  <a:pt x="16487" y="21600"/>
                </a:lnTo>
                <a:lnTo>
                  <a:pt x="0" y="21600"/>
                </a:lnTo>
                <a:lnTo>
                  <a:pt x="5113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06920" y="3716280"/>
            <a:ext cx="720720" cy="1008000"/>
          </a:xfrm>
          <a:custGeom>
            <a:avLst/>
            <a:gdLst>
              <a:gd name="textAreaLeft" fmla="*/ 0 w 720720"/>
              <a:gd name="textAreaRight" fmla="*/ 721080 w 720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4" y="0"/>
                </a:lnTo>
                <a:lnTo>
                  <a:pt x="21600" y="10800"/>
                </a:lnTo>
                <a:lnTo>
                  <a:pt x="15604" y="21600"/>
                </a:lnTo>
                <a:lnTo>
                  <a:pt x="0" y="21600"/>
                </a:lnTo>
                <a:lnTo>
                  <a:pt x="5996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2278080"/>
            <a:ext cx="0" cy="14400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227640" y="278100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0C6-49AA-42E2-B8F3-9E90AF7F1EB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ison of Three Approach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S (Boot loader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elatively faster resume from hib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icated processing required when data integrity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e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n process to ensure the data integrity after resume from hib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lower resume from hib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S +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ast resume from hib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n process to ensure the data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80BE-A488-40B6-B3A7-4870A78E50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idea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9898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processing until the un-hibernate on kernel side, using helper function of Boot 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RRED_RE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up the specified application with high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ing system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art always with the sam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ash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speed shut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C5FA-665E-4300-8703-2DA33FEA40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22:14:41Z</dcterms:created>
  <dc:creator>Masato Abe</dc:creator>
  <dc:description/>
  <dc:language>en-US</dc:language>
  <cp:lastModifiedBy>Takao Ikoma</cp:lastModifiedBy>
  <dcterms:modified xsi:type="dcterms:W3CDTF">2006-02-17T06:51:08Z</dcterms:modified>
  <cp:revision>2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3331358</vt:r8>
  </property>
  <property fmtid="{D5CDD505-2E9C-101B-9397-08002B2CF9AE}" pid="3" name="_AuthorEmail">
    <vt:lpwstr>Satoru.Ueda@jp.sony.com</vt:lpwstr>
  </property>
  <property fmtid="{D5CDD505-2E9C-101B-9397-08002B2CF9AE}" pid="4" name="_AuthorEmailDisplayName">
    <vt:lpwstr>Satoru Ueda</vt:lpwstr>
  </property>
  <property fmtid="{D5CDD505-2E9C-101B-9397-08002B2CF9AE}" pid="5" name="_EmailSubject">
    <vt:lpwstr>Tokyo TechnoJam</vt:lpwstr>
  </property>
  <property fmtid="{D5CDD505-2E9C-101B-9397-08002B2CF9AE}" pid="6" name="_ReviewingToolsShownOnce">
    <vt:lpwstr/>
  </property>
</Properties>
</file>